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06314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7B49-2A0C-4014-8A23-F2CC14018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4015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4585-0FDE-4489-B4E2-C5531229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6CDC-B485-4475-9C45-C42784594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D7EA-FA72-46CD-8760-A04BDCD7E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24"/>
              </a:spcBef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AAEB-AD39-4FB1-9F20-BC7CA21E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1B78-905A-4ED6-B22C-0E80F92A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7205-E2D6-4335-8C30-0ED99A01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C852-8C4E-4E46-992D-516628FD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944280"/>
            <a:ext cx="1360152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24"/>
              </a:spcBef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1483-E6AB-4C69-B654-3A0B6185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8909-415A-4295-B269-63505BC6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02A2-9F89-4AD4-8725-8320FC8D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6820-1617-4E6E-8FF1-7E14EAF2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 fontScale="93000"/>
          </a:bodyPr>
          <a:p>
            <a:pPr marL="529920" indent="-52992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9840" indent="-442800">
              <a:spcBef>
                <a:spcPts val="1324"/>
              </a:spcBef>
              <a:buClr>
                <a:srgbClr val="000000"/>
              </a:buClr>
              <a:buFont typeface="Times New Roman"/>
              <a:buChar char="–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2" marL="1768680" indent="-35280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3" marL="247752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–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4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5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6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9685440"/>
            <a:ext cx="333360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en-US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9685440"/>
            <a:ext cx="506736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en-US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9685440"/>
            <a:ext cx="333360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 algn="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en-US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fld id="{31C54601-1149-4B29-8632-9476A0B53D80}" type="slidenum"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77800" y="112680"/>
          <a:ext cx="14847840" cy="1040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112680"/>
                    <a:ext cx="14847840" cy="104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5:39:38Z</dcterms:created>
  <dc:creator>thierry.becco</dc:creator>
  <dc:description/>
  <dc:language>en-US</dc:language>
  <cp:lastModifiedBy>thierry.becco</cp:lastModifiedBy>
  <dcterms:modified xsi:type="dcterms:W3CDTF">2007-01-23T15:50:33Z</dcterms:modified>
  <cp:revision>14</cp:revision>
  <dc:subject/>
  <dc:title>Présentation PowerPoint</dc:title>
</cp:coreProperties>
</file>