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93F6-656B-45B6-9D1B-B5E1BC64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A8D7-284E-44A7-811F-793E5D0D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527D-C7B0-4201-8AED-BD88B612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80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268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80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268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4062-8944-4DB1-8856-4B0A09A1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2899-1E9B-40F4-9605-67967D0E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1C24-6105-481F-9D2B-7B516841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E840-74A7-47F1-A45B-5AE62C54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539B-4FBE-4602-99CB-46051962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662C-00C7-4864-89F4-36BDFD72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71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98A4-42CD-4FDD-A5A8-17F7CFA1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0AC4-DE21-46AF-B61E-5A08E8E4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4D3F-4D7D-4203-9A75-8364F7D4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B903-74A0-42B3-9270-4B3976C3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0E3F-CCD2-4663-9307-A2DCE559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2CEA-D271-416C-B234-82432E06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99D2-B253-42CC-A7F1-CC2BE12D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9680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4268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5056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9680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4268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33AF-DD17-4AF5-8066-6A59398E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50E0-742F-4993-856E-0F385DAC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34DC-ACF8-41FC-9F0B-CF3DEB2A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6128-9753-42B8-BDFD-FF10B602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71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8896-1D56-49A8-A30E-EE17BF07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78C4-D062-4FC1-81F9-A014B813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589A-7A98-480D-8577-2625D716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B985-DCB1-46D7-9CD9-257BD2B1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0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0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C628-D339-4DD3-B023-BF44519EEC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53720" cy="6858000"/>
            <a:chOff x="1440" y="0"/>
            <a:chExt cx="9153720" cy="6858000"/>
          </a:xfrm>
        </p:grpSpPr>
        <p:sp>
          <p:nvSpPr>
            <p:cNvPr id="42" name=""/>
            <p:cNvSpPr/>
            <p:nvPr/>
          </p:nvSpPr>
          <p:spPr>
            <a:xfrm>
              <a:off x="1440" y="0"/>
              <a:ext cx="1673280" cy="6858000"/>
            </a:xfrm>
            <a:prstGeom prst="rect">
              <a:avLst/>
            </a:prstGeom>
            <a:solidFill>
              <a:srgbClr val="556c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" name=""/>
            <p:cNvGraphicFramePr/>
            <p:nvPr/>
          </p:nvGraphicFramePr>
          <p:xfrm>
            <a:off x="304920" y="2820960"/>
            <a:ext cx="1116000" cy="1523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920" y="2820960"/>
                      <a:ext cx="1116000" cy="15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" name=""/>
            <p:cNvSpPr/>
            <p:nvPr/>
          </p:nvSpPr>
          <p:spPr>
            <a:xfrm>
              <a:off x="1677960" y="3789360"/>
              <a:ext cx="7466040" cy="3068640"/>
            </a:xfrm>
            <a:prstGeom prst="rect">
              <a:avLst/>
            </a:prstGeom>
            <a:solidFill>
              <a:srgbClr val="fac46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79280" y="5661000"/>
              <a:ext cx="1225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Optima Bold"/>
                </a:rPr>
                <a:t>Direction du Système d’Infor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1687680" y="3240"/>
              <a:ext cx="7467480" cy="378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7640" y="2130120"/>
            <a:ext cx="6550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8551-92C9-46FD-95F6-0590FDF958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7640" y="2130120"/>
            <a:ext cx="6550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ocole d’échang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re les MDPH et les CA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07640" y="4317480"/>
            <a:ext cx="655164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contre du 23 mars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’offre de service RMI actuel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sultation de la Base Allocatai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ffre  : CAFPRO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ransfert de données de gestion mens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ffre  : Flux XML Mensuel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ableau de bord sur les Droits Rm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ffre  : Tableau HTML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s évolutions de l’offre RM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713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uverture de la consultation de la base allocataire à de nouveaux profils mét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volution du transfert de données de gestion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tégration de nouvelles donné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tilisation du format xml standard du w3c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ise en place d’un transfert de données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fra-mensuel événement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réation d’un tableau de bord financ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ise à disposition d’une téléprocédure : @IR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ématérialisation des échanges par transfert électronique réciproque d’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s évolutions de l’offre RM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sues d’un travail partenarial au sein de groupes mixtes composés de représentant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nseils généra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aisses d’Allocation famili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la Caisse Nationale de M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s l ’égide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l’Association des Départements de 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la Caisse Nationale des Allocations Famil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tre proposition pour les MDP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réation de profils de consultation de la Base Allocataires adaptés aux métiers des MDP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ise en place d’échanges de données entre les MDPH et les CAF (dans les deux se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éflexion sur la dématérialisation complète du processus de traitement entre les MDPH et les CA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07:47:41Z</dcterms:created>
  <dc:creator>Régis Pont</dc:creator>
  <dc:description/>
  <dc:language>en-US</dc:language>
  <cp:lastModifiedBy>caf de l'ain</cp:lastModifiedBy>
  <dcterms:modified xsi:type="dcterms:W3CDTF">2007-03-23T10:58:23Z</dcterms:modified>
  <cp:revision>10</cp:revision>
  <dc:subject/>
  <dc:title>Protocole d’échange  les MDPH et les CAF</dc:title>
</cp:coreProperties>
</file>