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163F3-990A-4FCF-B892-8AEDE72E2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C9A4F-9E31-43A1-A076-DDA3A9357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E553A-4DDE-4C24-A755-57EE88C0E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27D56-A30A-4F38-A44F-E48359AA0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37005-785E-4C58-A2A0-334D10685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2D2A5-BA23-41AD-95EC-23742295C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D9830-823B-466B-977A-9214EA788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BAE05-DF8D-4542-8D9C-18A5A01AC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BC32D-6EDE-4758-BA62-50DE41057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7AD01-9490-43AE-A025-8B036BF00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FC31E-D9AB-4824-B197-B21B4AE39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33DD3-6458-43B8-9D26-730E9A6BB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1C6CF-A5A6-4100-8BDB-B338F34926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-2739" t="0" r="-2739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8T09:00:17Z</dcterms:created>
  <dc:creator>ANTHONY SCHLEMER</dc:creator>
  <dc:description/>
  <dc:language>en-US</dc:language>
  <cp:lastModifiedBy>ANTHONY SCHLEMER</cp:lastModifiedBy>
  <dcterms:modified xsi:type="dcterms:W3CDTF">2008-01-08T09:00:29Z</dcterms:modified>
  <cp:revision>1</cp:revision>
  <dc:subject/>
  <dc:title>Diapositive 1</dc:title>
</cp:coreProperties>
</file>