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31C1-875E-44CB-B829-173AA4833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63DD-43D0-4F6B-9422-05A640F1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264C-1646-4525-9517-1B5A7340F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C6C0-DD86-4D7C-B057-B5D502C49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849A-9605-4513-BB50-C5CB3737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ABD8-495E-4F70-9410-C1BCC95D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7C9F-7E63-4CF7-ADA3-F586BE8D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A7C8-FACF-4B03-9616-C5581DC8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BB8C-07F8-4F0F-B8E1-6492CE99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EB6A-167D-4215-8820-476BF565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7D52-A99C-473D-B197-80D7E0F6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E9A1-F3C4-456B-A693-B82C8E0C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5043-6DDE-41F9-9D2B-7398346BF12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8901" t="0" r="-313" b="0"/>
          <a:stretch/>
        </p:blipFill>
        <p:spPr>
          <a:xfrm>
            <a:off x="179280" y="187200"/>
            <a:ext cx="8785440" cy="6612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903000" y="6165720"/>
            <a:ext cx="1561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rojet MD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MCD V.0.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CG 54 – 22/06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-480" t="40994" r="81352" b="6000"/>
          <a:stretch/>
        </p:blipFill>
        <p:spPr>
          <a:xfrm>
            <a:off x="900000" y="333360"/>
            <a:ext cx="7417080" cy="6264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1360" y="260280"/>
            <a:ext cx="481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La table paramètres englobera toutes les tables de paramét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-753" t="0" r="-34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00760" y="4302000"/>
            <a:ext cx="1812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rojet MD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MPD_CakePHP V.0.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CG 54 – 22/06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3T08:18:05Z</dcterms:created>
  <dc:creator>ANTHONY SCHLEMER</dc:creator>
  <dc:description/>
  <dc:language>en-US</dc:language>
  <cp:lastModifiedBy>ANTHONY SCHLEMER</cp:lastModifiedBy>
  <dcterms:modified xsi:type="dcterms:W3CDTF">2007-07-03T09:22:53Z</dcterms:modified>
  <cp:revision>10</cp:revision>
  <dc:subject/>
  <dc:title>Diapositive 1</dc:title>
</cp:coreProperties>
</file>