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77CD-8F86-408E-BAC1-4948BF96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F54-3139-4C2C-A37F-7D55BB42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ACA-449C-4C67-804B-9D3C2C38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8D5-835B-43A9-9AA4-9DFD6A64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DED-C82E-4C17-8AD9-D1718951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517-415D-4529-AD42-0560C77B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21C-8A53-4917-9DD2-526A7D8A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0A4-1977-4109-903B-87D8FA05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50B-B2B9-4765-B367-336DD2BE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5878-1B1A-4C5E-83E0-9516BE46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211-C314-4417-A9FA-5A27CA8A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DF5-760D-4F63-909C-FEAB72A5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50E5-16D1-4594-8763-5DA6F226B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  <a:ea typeface="Times New Roman"/>
              </a:rPr>
              <a:t>2éme 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053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udi 14 janvi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5" descr="logo.png"/>
          <p:cNvPicPr/>
          <p:nvPr/>
        </p:nvPicPr>
        <p:blipFill>
          <a:blip r:embed="rId3"/>
          <a:stretch/>
        </p:blipFill>
        <p:spPr>
          <a:xfrm>
            <a:off x="685800" y="533520"/>
            <a:ext cx="1571760" cy="742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\\srvec\travaux\COMMUNICATION\LOGOTHEQUE\LOGO DRTEFP\LOGO DRTEFP.jpg"/>
          <p:cNvPicPr/>
          <p:nvPr/>
        </p:nvPicPr>
        <p:blipFill>
          <a:blip r:embed="rId4"/>
          <a:stretch/>
        </p:blipFill>
        <p:spPr>
          <a:xfrm>
            <a:off x="3505320" y="304920"/>
            <a:ext cx="1352520" cy="143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\\srvec\travaux\COMMUNICATION\LOGOTHEQUE\LOGO EC\LOGO EC CARRE\LOGO EC CARRE.jpg"/>
          <p:cNvPicPr/>
          <p:nvPr/>
        </p:nvPicPr>
        <p:blipFill>
          <a:blip r:embed="rId5"/>
          <a:stretch/>
        </p:blipFill>
        <p:spPr>
          <a:xfrm>
            <a:off x="6553080" y="30492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ypes d’out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onymisation des fichiers VAE certific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licatif de codage indépend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til de codage intégré au progic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rmonisation des données des fichiers certificateur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atch de correspondance par 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égré au progiciel avec fichier de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es données vers la base commu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el : mail, ftp, extra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mi-automatique par connection directe avec le serv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ploitation des données et publication des résul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elle par scripts ou macros sur feuilles exc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étraitement par progiciel, publication sur extranet dédi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ébergement et Gestion de la bas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local sur outils bureau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ébergement et traitement sur serveur externali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eurs de succès et points de vigi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nstitu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 avec les certif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finition des résultats attendus et des indicateurs perti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du périmètre de l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tes : confidentialité, temps/certificateur, ressources opérateur (informatiq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ème technique : souplesse Vs inté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s du projet : court terme, moyen te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Mutualisation des outils : quelle op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tualisation : objectifs génér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duire fortement le coût d’accès aux outils informatiques du 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pas payer plusieurs fois le même out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er tous des développements fait pour chac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ager les règles et pratiques d’usage. Apprendre ensem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ques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mettre d’accord sur un cahier des charges type comm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/développer ensemble la même base logic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c des adaptations propres à chaque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 le(s) même(s) prestata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ir compte des spécificités de chaque projet (temps, taille, objectifs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 : mise en commun d’outils informatiques du marché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u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at groupé de licences d’outils informatiques du mar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rutement sur Cahier des charges commun de prestataires uniques pour toutes les régions adhérent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ntag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duction importante des coûts d’équipement à prestations ég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ils immédiatement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t développement futur est facturé par le presta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 de maîtrise sur les versions fu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 Simulation budgétaire : année 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1 : grosse région (10 valideurs), système d’export semi-auto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ctuel : 21 4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près mutualisation : 12 4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: 3 80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2 : région moyenne (6 valideurs), système d’export semi-auto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ctuel : 19 2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près mutualisation : 9 1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: 2 5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 nombre minimum de 4 à 5 ré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ant le même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production commune d’outils logiciels lib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duire de manière collaborative les outils logiciels nécessaires au Suivi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rendre accessibles à tous pour utilisation, compléments et améliorations (logiciels lib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ûts d’achat nul après développ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mélioration continue des logiciels par communauté de développ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étences informatiques en ré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du processus (exemple : Adull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ption 2 : exemple de l’accompagnement par Adull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i est Adullac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ider les collectivités territoriales, des administrations à de développer, mutualiser et maintenir un patrimoine commun de logiciels libres utiles aux missions de service 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ation en 2002. Président François Elie (auteur de plusieurs ouvrages sur les logiciels libr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88 adhérents dont 142 collectivités territoriales et administrations publiques. (dont 11 Régions. Nombreuses villes, agglomérations, conseils régionaux. Service d’information du Gouvernem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uctures : Adullact : association, Adulact.net : plate-forme de développement coopétarif. Adullact Projet : SCIC de développement de logiciels libr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s de projets : Maarch (gestion documentaire), I.Parapheur (signature de documents électronique), Web rSa (gestion dun RSA pour les dépar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fonctionnement de  l’accompagn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cep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réation d’un Groupe de Travail Coopératif qui élabore le cahier des charges assisté par un chargé de mission d’Adullac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ullact rédige le cahier des charges fonctionnel et technique des logiciels en proj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s en charge par Adullact-projet sous la supervision du groupe de travail et confié sur devis à des prestataires sous-traitants répertorié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ement est assuré par la coopérative Adullact au moyen de fonds propres, de crédits bancaires et de contributions des collectivités parties prenantes au pro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rat entre Adullact et chacun des utilisateurs des logiciels. Maintenance corrective et évoluti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ancement par chaque collectivité utilisatrice avec aménagement suivant l’antériorit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tut  libre des logici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logiciels produits par la « forge » et leurs sources de programmation sont des logiciels « libres » utilisables gratuitement par simple télécharg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communauté des développeurs peut intervenir pour modifier et améliorer le logici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formes de mutualisation des outils mis en oeuvre sont possibles et perti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première réunion, le 6 octobre 2009 a montré l’intérêt des régions présentes pour poursuivre dans cette vo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invitant à cette 2éme réunion, l’équipe VAE de PACA souhaite aller plus loin sur des options concrè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simulation budgét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timation avec une réduction arythm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2286000"/>
          <a:ext cx="7467480" cy="2989440"/>
        </p:xfrm>
        <a:graphic>
          <a:graphicData uri="http://schemas.openxmlformats.org/drawingml/2006/table">
            <a:tbl>
              <a:tblPr/>
              <a:tblGrid>
                <a:gridCol w="1266840"/>
                <a:gridCol w="1171440"/>
                <a:gridCol w="914400"/>
                <a:gridCol w="1067040"/>
                <a:gridCol w="990360"/>
                <a:gridCol w="1067040"/>
                <a:gridCol w="9903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 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ant ini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1ére ann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anné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développ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 achet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entre développement à partir de zéro « page blanch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ion vers un statut libre d’un logiciel existant (exemple : Xa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mnisation du propriétaire de l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logiciel devient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quel traitement pour les projets à statut différent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jets déjà équipés ou en passe de l’ê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articiper à la phase de con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roposer le développement d’outils complémentaires des 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tent des réductions de maintenance si leur outil est retenu dans la mut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réflexion sur des cahiers des charges ou simplement interres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articiper à la phase de conception en orientant le produit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-financent le 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être exonérés de maintenance pendant quelques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joignent le dispositif après le développ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tent de l’outil déjà dévelop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e verser un droit d’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rois mutualis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1 : formalisation et partage des bonnes pr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2 : achats groupés de licences d’outils informatiques du marc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3 : production en commun d’outils informatiques libres au sein d’une forge en Open Source (Adullac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3.1 : achat de droits de propriété d’outils du march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3.2 : développement d’outils nouveaux en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ager l’état d’avancement des projets de Suivi des Parcours VAE à l’étude ou en cours dans les ré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e un premier échange autour des outils et méthodes mis en œuvre ou envisag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r les options de mutualisation d’outils et choisir une piste de trav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h-13h : partage outils et pra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tat des lieux des programmes de suivi des parcours VAE en cours ou à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e en commun des questions, outils et méth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h-16h : examen et choix des options de mutual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chat commun de lic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logiciels li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Suivi régional des parcours VAE : partage des outils et pra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roj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igine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s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exte institu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ncipes et cont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ncipes et contrai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enaires et 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t Ré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r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fonctions et leurs out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685800" y="3505320"/>
            <a:ext cx="7570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990720" y="2209680"/>
            <a:ext cx="758880" cy="621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1066680" y="4952880"/>
            <a:ext cx="758880" cy="621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3962520" y="3548160"/>
            <a:ext cx="1171440" cy="9651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Base Région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 parcours V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0"/>
          <p:cNvSpPr/>
          <p:nvPr/>
        </p:nvSpPr>
        <p:spPr>
          <a:xfrm>
            <a:off x="3429000" y="3200400"/>
            <a:ext cx="2274840" cy="172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2928960" y="2835360"/>
            <a:ext cx="3308400" cy="250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2238480" y="2238480"/>
            <a:ext cx="4687920" cy="3562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2"/>
          <p:cNvSpPr/>
          <p:nvPr/>
        </p:nvSpPr>
        <p:spPr>
          <a:xfrm>
            <a:off x="4495680" y="2057400"/>
            <a:ext cx="16765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Transf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4495680" y="2590920"/>
            <a:ext cx="144792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mo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6"/>
          <p:cNvSpPr/>
          <p:nvPr/>
        </p:nvSpPr>
        <p:spPr>
          <a:xfrm rot="16200000">
            <a:off x="2581920" y="3209040"/>
            <a:ext cx="474480" cy="1523880"/>
          </a:xfrm>
          <a:prstGeom prst="downArrow">
            <a:avLst>
              <a:gd name="adj1" fmla="val 50000"/>
              <a:gd name="adj2" fmla="val 8029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7"/>
          <p:cNvSpPr/>
          <p:nvPr/>
        </p:nvSpPr>
        <p:spPr>
          <a:xfrm rot="18062400">
            <a:off x="2771640" y="2485440"/>
            <a:ext cx="476280" cy="1447920"/>
          </a:xfrm>
          <a:prstGeom prst="downArrow">
            <a:avLst>
              <a:gd name="adj1" fmla="val 50000"/>
              <a:gd name="adj2" fmla="val 7600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8"/>
          <p:cNvSpPr/>
          <p:nvPr/>
        </p:nvSpPr>
        <p:spPr>
          <a:xfrm rot="20126400">
            <a:off x="3504960" y="2057040"/>
            <a:ext cx="474480" cy="1308240"/>
          </a:xfrm>
          <a:prstGeom prst="downArrow">
            <a:avLst>
              <a:gd name="adj1" fmla="val 50000"/>
              <a:gd name="adj2" fmla="val 689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0"/>
          <p:cNvSpPr/>
          <p:nvPr/>
        </p:nvSpPr>
        <p:spPr>
          <a:xfrm rot="16200000">
            <a:off x="6048360" y="3247560"/>
            <a:ext cx="476280" cy="1600200"/>
          </a:xfrm>
          <a:prstGeom prst="downArrow">
            <a:avLst>
              <a:gd name="adj1" fmla="val 50000"/>
              <a:gd name="adj2" fmla="val 8399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1"/>
          <p:cNvSpPr/>
          <p:nvPr/>
        </p:nvSpPr>
        <p:spPr>
          <a:xfrm rot="14707800">
            <a:off x="2735640" y="4045320"/>
            <a:ext cx="474840" cy="1374840"/>
          </a:xfrm>
          <a:prstGeom prst="downArrow">
            <a:avLst>
              <a:gd name="adj1" fmla="val 50000"/>
              <a:gd name="adj2" fmla="val 723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3"/>
          <p:cNvSpPr/>
          <p:nvPr/>
        </p:nvSpPr>
        <p:spPr>
          <a:xfrm>
            <a:off x="7162920" y="3583080"/>
            <a:ext cx="1676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Exploitation des données et diffusion des 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7"/>
          <p:cNvSpPr/>
          <p:nvPr/>
        </p:nvSpPr>
        <p:spPr>
          <a:xfrm>
            <a:off x="4495680" y="2590920"/>
            <a:ext cx="175284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armo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8"/>
          <p:cNvSpPr/>
          <p:nvPr/>
        </p:nvSpPr>
        <p:spPr>
          <a:xfrm>
            <a:off x="4495680" y="3048120"/>
            <a:ext cx="175284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Anonym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2"/>
          <p:cNvSpPr/>
          <p:nvPr/>
        </p:nvSpPr>
        <p:spPr>
          <a:xfrm>
            <a:off x="1447920" y="27432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3"/>
          <p:cNvSpPr/>
          <p:nvPr/>
        </p:nvSpPr>
        <p:spPr>
          <a:xfrm>
            <a:off x="1143000" y="403848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4"/>
          <p:cNvSpPr/>
          <p:nvPr/>
        </p:nvSpPr>
        <p:spPr>
          <a:xfrm>
            <a:off x="1523880" y="548640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8"/>
          <p:cNvSpPr/>
          <p:nvPr/>
        </p:nvSpPr>
        <p:spPr>
          <a:xfrm rot="20126400">
            <a:off x="3504960" y="2057040"/>
            <a:ext cx="474480" cy="1308240"/>
          </a:xfrm>
          <a:prstGeom prst="downArrow">
            <a:avLst>
              <a:gd name="adj1" fmla="val 50000"/>
              <a:gd name="adj2" fmla="val 689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2666880" y="117648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1"/>
          <p:cNvSpPr/>
          <p:nvPr/>
        </p:nvSpPr>
        <p:spPr>
          <a:xfrm>
            <a:off x="3048120" y="170964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31880" y="2265480"/>
            <a:ext cx="27936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o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Anonymisation des fichiers VAE certifica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 certaines données personnelles en un code indéchiffrable. Vérifier que ces données figurent dans chaque enregistrement et écarter les aut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Harmonisation des données des fichiers certificateu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ser les rubriques des fichiers avec celles de la base commune. L’harmonisation est produite à l’aide d’un applicatif de mise en correspondance de chaque fichier avec la b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Transfert des données vers la base commu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ertificateur génère une copie exportable de ses données. Celles-ci sont ensuite transférées à l’opérate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Exploitation des données et publication des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base est traitée à l’aide d’outils spécifiques. Les résultats sont diffusés généralement sur un site web à accès restreint de type Intr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Hébergement et Gestion de la base de donné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ème de gestion de base de données supportant la base commune et les outils de traitement. et un serveur pour l’héber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2057400" y="1371600"/>
            <a:ext cx="533520" cy="439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8"/>
          <p:cNvSpPr/>
          <p:nvPr/>
        </p:nvSpPr>
        <p:spPr>
          <a:xfrm rot="16200000">
            <a:off x="1548360" y="1324800"/>
            <a:ext cx="201600" cy="555480"/>
          </a:xfrm>
          <a:prstGeom prst="downArrow">
            <a:avLst>
              <a:gd name="adj1" fmla="val 50000"/>
              <a:gd name="adj2" fmla="val 688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838080" y="1425600"/>
            <a:ext cx="374760" cy="30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676520" y="1219320"/>
            <a:ext cx="182160" cy="67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3038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303847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996840" y="2311560"/>
            <a:ext cx="298440" cy="204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996840" y="2558880"/>
            <a:ext cx="298440" cy="204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996840" y="2841480"/>
            <a:ext cx="298440" cy="204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8"/>
          <p:cNvSpPr/>
          <p:nvPr/>
        </p:nvSpPr>
        <p:spPr>
          <a:xfrm rot="16200000">
            <a:off x="1697040" y="2568240"/>
            <a:ext cx="685800" cy="206280"/>
          </a:xfrm>
          <a:prstGeom prst="downArrow">
            <a:avLst>
              <a:gd name="adj1" fmla="val 100000"/>
              <a:gd name="adj2" fmla="val 2486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2252520" y="2417760"/>
            <a:ext cx="533520" cy="43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8"/>
          <p:cNvSpPr/>
          <p:nvPr/>
        </p:nvSpPr>
        <p:spPr>
          <a:xfrm rot="16200000">
            <a:off x="1522440" y="2711520"/>
            <a:ext cx="146160" cy="403200"/>
          </a:xfrm>
          <a:prstGeom prst="downArrow">
            <a:avLst>
              <a:gd name="adj1" fmla="val 50000"/>
              <a:gd name="adj2" fmla="val 689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8"/>
          <p:cNvSpPr/>
          <p:nvPr/>
        </p:nvSpPr>
        <p:spPr>
          <a:xfrm rot="16200000">
            <a:off x="1531800" y="2212920"/>
            <a:ext cx="146160" cy="403200"/>
          </a:xfrm>
          <a:prstGeom prst="downArrow">
            <a:avLst>
              <a:gd name="adj1" fmla="val 50000"/>
              <a:gd name="adj2" fmla="val 689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8"/>
          <p:cNvSpPr/>
          <p:nvPr/>
        </p:nvSpPr>
        <p:spPr>
          <a:xfrm rot="16200000">
            <a:off x="1500120" y="2472840"/>
            <a:ext cx="145800" cy="403200"/>
          </a:xfrm>
          <a:prstGeom prst="downArrow">
            <a:avLst>
              <a:gd name="adj1" fmla="val 50000"/>
              <a:gd name="adj2" fmla="val 6913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8"/>
          <p:cNvSpPr/>
          <p:nvPr/>
        </p:nvSpPr>
        <p:spPr>
          <a:xfrm>
            <a:off x="2133720" y="3581280"/>
            <a:ext cx="533160" cy="43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8"/>
          <p:cNvSpPr/>
          <p:nvPr/>
        </p:nvSpPr>
        <p:spPr>
          <a:xfrm rot="16200000">
            <a:off x="1624680" y="3556800"/>
            <a:ext cx="201600" cy="555480"/>
          </a:xfrm>
          <a:prstGeom prst="downArrow">
            <a:avLst>
              <a:gd name="adj1" fmla="val 50000"/>
              <a:gd name="adj2" fmla="val 688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914400" y="3652920"/>
            <a:ext cx="374760" cy="30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838080" y="4419720"/>
            <a:ext cx="533520" cy="439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8"/>
          <p:cNvSpPr/>
          <p:nvPr/>
        </p:nvSpPr>
        <p:spPr>
          <a:xfrm rot="16200000">
            <a:off x="1701000" y="4394880"/>
            <a:ext cx="201600" cy="555840"/>
          </a:xfrm>
          <a:prstGeom prst="downArrow">
            <a:avLst>
              <a:gd name="adj1" fmla="val 50000"/>
              <a:gd name="adj2" fmla="val 6892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419720"/>
            <a:ext cx="533520" cy="439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8"/>
          <p:cNvSpPr/>
          <p:nvPr/>
        </p:nvSpPr>
        <p:spPr>
          <a:xfrm>
            <a:off x="1371600" y="5391000"/>
            <a:ext cx="762120" cy="70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01-13T17:14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